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6F76-2A76-4958-81D9-A108F6DA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30120"/>
            <a:ext cx="822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A165-16E2-4AB3-9118-2646B7C7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3012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3012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9358-DBD8-46B3-81DB-3A66E5E1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30120"/>
            <a:ext cx="264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30120"/>
            <a:ext cx="264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30120"/>
            <a:ext cx="264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AB96-4DF0-4150-9830-58B130A61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AF52-4947-42B4-A1CA-A84F52C76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2D82-FC57-4E99-BE7D-A9E25504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75D2-0756-478E-B5A3-399D6234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C64E-1554-404B-8F4D-206A3B05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E75F-A067-439D-B9A7-FAD072CB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9A87-EE8B-40FB-B468-7B408DBC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3012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4430-63D1-4DE4-89DF-C82DA230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3AD9-52C8-4CCF-9B65-8BCB6069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3012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F972-40AC-4EB8-97A1-6C20A1CA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30120"/>
            <a:ext cx="822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1CDC-2D30-486E-A4BB-DBA1D5AD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30120"/>
            <a:ext cx="822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2FF6-EFFD-4F83-9375-176ED5B0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3012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3012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AC87-9FAF-4FAF-BDB7-958C1C11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30120"/>
            <a:ext cx="264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30120"/>
            <a:ext cx="264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30120"/>
            <a:ext cx="264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AABB-845A-40A5-B403-DB81CF033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B326-BCF1-4213-94E8-C6A12BFD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6CEB-58C9-4C24-9FE8-7A725F34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23C3-4738-4FE7-B4BB-892E03AA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D097-9E71-42BD-8CDA-1A2729AF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3012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7F4A-C661-4BCC-8DB3-45D3D730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3012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AF5C-7FC2-421C-B8AF-43BF7ACD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30120"/>
            <a:ext cx="822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038A-171C-4E68-AEC0-0A9CAB82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0637-2E5C-4263-8545-0D6A7C623233}" type="slidenum">
              <a:rPr b="0" lang="en-US" sz="14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CE80-3AF9-4D02-86BB-17BCA43111E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o Tell The Good News”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rt 2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Quarter 12, Lesson 12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Acts 24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Pages 194-197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143000"/>
            <a:ext cx="8076960" cy="2438280"/>
          </a:xfrm>
          <a:prstGeom prst="ellipse">
            <a:avLst/>
          </a:prstGeom>
          <a:noFill/>
          <a:ln w="889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7334-45A2-446D-8390-B8E34E45DE93}" type="slidenum">
              <a:t>1</a:t>
            </a:fld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aul Preaches to Felix 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cts 24:25-27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eached righteousness, temperance, judgment to com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elix fearfully rejected the message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o away for now; when I have a convenient time I will call for you.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s happened time after time over a two year perio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 hoped for a bribe to set Paul fre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estus succeeded Felix as governo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AC98-81D9-4601-A9E2-A712EDB04A20}" type="slidenum">
              <a:t>10</a:t>
            </a:fld>
          </a:p>
        </p:txBody>
      </p:sp>
    </p:spTree>
  </p:cSld>
  <p:transition spd="med">
    <p:zoom dir="in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rom The Last Lesson..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aul reached Jerusalem with the gif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on mob violence was started by Asian Jew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aul was rescued by Roman soldie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sed his Roman citizenship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efended himself before the mob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aken before the Jewish Counci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ews plotted to kill hi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, he was taken to Caesare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17B3-5C23-4152-A3D2-98A0695358B6}" type="slidenum">
              <a:t>2</a:t>
            </a:fld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94D1-3FBE-4E67-9323-D0DE8B49B4AB}" type="slidenum">
              <a:t>3</a:t>
            </a:fld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aul Before Felix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cts 24:1-6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elix, the governor, to hear the case against Pau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Jews arrived with Tertullus, their orator/attorney, to press charg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ertullus “buttered” up the judg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accusation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 pestilent fellow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 mover of sedition among the Jew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 ringleader of the sect of the Nazaren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profaned the templ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583F-4ECA-4454-A235-CFD73358658D}" type="slidenum">
              <a:t>4</a:t>
            </a:fld>
          </a:p>
        </p:txBody>
      </p:sp>
    </p:spTree>
  </p:cSld>
  <p:transition spd="med">
    <p:zoom dir="in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aul Before Felix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cts 24:7-9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ertullus went further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e tried to judge him according to our law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Romans, with great violence, took him from 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is accusers were commanded to come before you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Jews agreed to all of the char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elix then asked Paul to spea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2FA1-4F68-40F3-B395-E64687C2E05B}" type="slidenum">
              <a:t>5</a:t>
            </a:fld>
          </a:p>
        </p:txBody>
      </p:sp>
    </p:spTree>
  </p:cSld>
  <p:transition spd="med">
    <p:zoom dir="in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aul Defense Before Felix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cts 24:10-15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aul’s response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 was in the area only 12 day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 went to Jerusalem to worship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 am not a troublemak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 did not start a disturban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ccording to the Way, I do serve Go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 believe all things written in the law and in the prophe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y hope is in Go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1727-61FB-4698-BDF5-285A29C958D1}" type="slidenum">
              <a:t>6</a:t>
            </a:fld>
          </a:p>
        </p:txBody>
      </p:sp>
    </p:spTree>
  </p:cSld>
  <p:transition spd="med">
    <p:zoom dir="in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aul Defense Before Felix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cts 24:15-18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y hope i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 the resurrection of the just and unjus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 clear conscience before God and ma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 came to Jerusalem to bring offerings to my n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y found me in the temple, being purified, and with no crowd or uproa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me Asian Jews started the troubl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EB25-0596-46E0-9F13-60FFBA12A49A}" type="slidenum">
              <a:t>7</a:t>
            </a:fld>
          </a:p>
        </p:txBody>
      </p:sp>
    </p:spTree>
  </p:cSld>
  <p:transition spd="med">
    <p:zoom dir="in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aul Defense Before Felix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cts 24:19-21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Asian Jews should be here to make their own accusa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se men here ought to tell what evil I did before the Council, except this one thing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 did shout out, “Concerning the resurrection of the dead I am being judged by you this day.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7114-9ADC-457A-8822-1482214273E6}" type="slidenum">
              <a:t>8</a:t>
            </a:fld>
          </a:p>
        </p:txBody>
      </p:sp>
    </p:spTree>
  </p:cSld>
  <p:transition spd="med">
    <p:zoom dir="in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elix Procrastinates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cts 24:22-24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elix wanted Lysias, the commander who rescued Paul, to come down to Caesare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elix knew something about the Wa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ad governed Judea for 6 yea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is wife, Drusilla, was a Jew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fter a few days, he called for Pau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anted to hear more about Jes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FED6-AA8C-4946-BBBB-E91C9257629E}" type="slidenum">
              <a:t>9</a:t>
            </a:fld>
          </a:p>
        </p:txBody>
      </p:sp>
    </p:spTree>
  </p:cSld>
  <p:transition spd="med">
    <p:zoom dir="in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17:06:33Z</dcterms:created>
  <dc:creator>Frank D Vines</dc:creator>
  <dc:description/>
  <dc:language>en-US</dc:language>
  <cp:lastModifiedBy>Frank D Vines</cp:lastModifiedBy>
  <dcterms:modified xsi:type="dcterms:W3CDTF">2007-01-16T17:39:13Z</dcterms:modified>
  <cp:revision>14</cp:revision>
  <dc:subject/>
  <dc:title>“Go Tell The Good News” Part 2</dc:title>
</cp:coreProperties>
</file>